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BB3-6FD5-41C0-8B3A-F9A4D1FE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9B2-56D1-4BE4-8BCF-DE2E7791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3D4-AA0F-443C-8109-FB4E1978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EB7-28DE-4F30-842F-C76BB640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223-A751-4B6B-AA5F-4AF31B2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7C1-FE8F-4859-B9CF-2C798020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85B-FB54-4213-8C90-0F72245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94A-6FBE-49F8-8252-D4A8D25E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E1C-60CB-4A01-A5A4-08460B4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6DC-969A-46F1-A94A-F953ABC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E96-18B6-4C2D-AB4D-3A67EE4F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D8A-481F-4E0A-94E8-D8727F2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2F6-ABC9-4AFE-BFD0-375E6415F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34:59Z</dcterms:modified>
  <cp:revision>29</cp:revision>
  <dc:subject/>
  <dc:title>SALARIUL</dc:title>
</cp:coreProperties>
</file>